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2951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760" y="0"/>
            <a:ext cx="295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4500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9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61240"/>
            <a:ext cx="295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1B241-D7A0-4729-A3A2-BDBA9DD14E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5472D-00E4-4E3F-8422-ED7BAAB57F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ED618-649F-4CBA-9BBC-41A60DB93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27341-1977-4F0A-B3ED-D42590740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E1C6E-0879-4F97-A306-878B4641B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64B5C-26BA-411C-A885-CE7A1BAD26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4CB8C-0EE5-4E3A-B11B-47CAF23B8B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5125D-22CD-4D0C-935F-6ED9E8D6F9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25D24-FA23-4AEB-885A-DD9F1D8CE9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D3057-7C9A-4B4F-A5CD-C1C057E0A5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C07E0-8C04-4C5E-B4FB-F42C35AB8F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7B13D-FE38-4E13-8699-FCFA28F45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7F5B2-EA7E-417D-BA62-F813EEE4D0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63CA9-C8D2-4C7A-AC84-8E855FB37A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3CBDD-6C26-478C-85F8-5102495D97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AA3AE-4A40-49CE-B0E1-0A0C45B210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55F80-74CB-489F-96F0-707AE8FB80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5C90B-D7EB-4F58-A0B9-48AF1F7C26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66CDC-60CB-47B6-9BD7-3BD2B6944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5A837-5EAB-42CA-9CAC-D8697C597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42528-1CB2-436E-902A-AFBFD494A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ABA74-EC72-457A-87E7-172B65FE6F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0ECF0-C3F9-4B8B-854C-316EA535FF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E9115-9F9B-4F23-BFF1-0C5FFADE43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8764-CC5F-48F9-998B-7B21BF44A6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535C-72F1-42B1-B3CE-7B21317FD2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BD39B-935C-4C36-861D-709C17634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9A623-628C-41A7-9706-8035C3BCEC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DE9DE-657A-4F15-9D48-7ACE9B531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5D0CE-0708-40C5-9E3A-7F7848412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573F5-27A9-42DA-949A-1BF5E4915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D7106-66F0-42AF-A6C2-3A6E2AF041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874FB-4A8F-4561-B6CB-15D8DBD3DD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6240" y="685800"/>
            <a:ext cx="454644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F9012-10CF-4AB2-BC24-8A06AFBEB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F5A77-42AB-4C0B-9DF4-5570C7A34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8BC4-8377-4D88-90C3-F0E4A29CF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01D8-6AAC-4CD5-9024-236E18132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020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B6AD-7109-461C-BA01-0E72F8283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028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72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028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72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58A9-F8B7-407D-8760-C7433278F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DAF6-9945-442D-96EC-440C0D0A8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188F-780D-41D9-99E0-42A7C0D02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CA47-2309-4457-AB17-CD31290B3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6EBF-768D-469A-A01B-107EE2B10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115560"/>
            <a:ext cx="7516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606E-97E2-49FE-AFC5-606AF3A5A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9E25-8BA3-45DE-BF49-4A51C2916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020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6F15-4AF9-499C-9E13-5D7F271C0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3F7B-AF21-4B04-B431-9FEA63B07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248520"/>
            <a:ext cx="2112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248520"/>
            <a:ext cx="287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06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B7D6-96D9-4847-BD0A-02C313C6C6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linux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654120"/>
            <a:ext cx="678168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 Worgrou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k Upd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Group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CE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7636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quashFS LZMA/LZO Suppo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ZMA and LZO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Phillip Loug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ZMA work was submitted, and was in Linux-next, but got rej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ZO work (contributed by LGE) was mainlined!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M improvements in U-boo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aspects of U-boot for A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relocating bootload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rn caches on for faster boo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Wolfgang Den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was completed and mainlined in U-Bo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6360" y="114480"/>
            <a:ext cx="7529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-Boot Result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3848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for boot time into app code is 5s so U-boot image compression was not possible. But now it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130000"/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from Matthias Weißer on Aug 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130000"/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article.gmane.org/gmane.comp.boot-loaders.u-boot/820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0520" y="1496880"/>
          <a:ext cx="8640360" cy="2449800"/>
        </p:xfrm>
        <a:graphic>
          <a:graphicData uri="http://schemas.openxmlformats.org/drawingml/2006/table">
            <a:tbl>
              <a:tblPr/>
              <a:tblGrid>
                <a:gridCol w="3651480"/>
                <a:gridCol w="1927800"/>
                <a:gridCol w="1441800"/>
                <a:gridCol w="1619280"/>
              </a:tblGrid>
              <a:tr h="5943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Old (icach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New (i+d cac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mpro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U-boot imag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91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4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Copy 32M NOR -&gt; 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7.0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6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.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minfo of 1.2 MiB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1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ootm of 1.2 MiB gz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5.4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ootm of 0.8 MiB lzma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7,1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ootm of 1.6 MiB lzo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3.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e format standar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singled trace format standard for the embedded indus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Efficios (Matthieu Desnoye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(Common Trace Format) was cre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http://www.efficios.com/ct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belTrace trace conversion libr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of of concept conversion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onvert kernel messages with timestamps to CTF and back to tex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xecboot improve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user interface and supported storage devices for kexecbo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Yuri Bushmele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 has been enhan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n reading other storage devices was comple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ash filesystem tes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 different flash filesystems for comparis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were shown at ELC Europe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 2011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76360" y="114480"/>
            <a:ext cx="75344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Project Propos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19360"/>
            <a:ext cx="84582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ideas were collected in Dec. 2010 and Jan.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ds were solicited in M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tecture Group approved projects in Apr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projects approved out of 2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have budget for more pro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s are being finalized n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good list, but would like more proposals from CE WG/LF memb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20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19360"/>
            <a:ext cx="8534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rove UBIFS mount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Android kernel fea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fast symbol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on Linux tiny patch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upport read-only block filesystems on flash de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2011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1936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content for kernel trace and deb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the watchdog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tend bluetooth stack with Remote SIM Access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Device Firmware Upgrade (DFU) code in U-Bo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licit project proposals throughout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 of merger with Linux Foun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of 2010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 for 2011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mee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initia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mprove UBIFS mount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logging or checkpointing to UBI to avoid bad-block scan of whole device on UBI att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Linutronix (Thomas Gleixn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almost finis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Android kernel featu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a single Android feature (logger) to mainline, as a pilot project for 3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r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ty mainlining of Androi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term goal is to mainline as much of Android as possible, to reduce difference and allow for easier “unified distro kernel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rnel that can run Ubuntu, Android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have interest from Alessio Boga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working on project plan and b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fast symbol resolu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symbol lookup to use binary search instead of linear sc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eds up module loa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Alessio Boga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ches are in linux-nex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 on Linux tiny patch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ve Linux-tiny patch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-port patches to latest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more patches to improve kernel configur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We Zhanj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 read-only block filesystems on flash med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block emulation layer to support read-only filesystems on top of MTD layer in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allow Squashfs to be used on raw NAND flash m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hillip Loug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in pro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nux wiki content for trace and debu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 content on kernel trace and debug techniques and publish on eLinux wi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eter Huew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the watchdog fra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line the watchdog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al framework was written by Alan Cox and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a generalized watchdog mechan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provide easier method to add watchdogging to drivers and the kernel going forw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s: Wolfram Sang and Wim van Sebroe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ash filesystem tes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mount and runtime performance tests on multiple flash filesystems, for each new kernel rele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 results on eLinux wi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nd bluetooth stack with Remote SIM Access protoco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for Linux bluetooth and telephony stack to utilize SIM in external device for op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use case is for Linux-based in-car system to utilize SIM in mobile device for call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roFu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almost comple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Device Firmware Upgrade (DFU) code in U-Boo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ice Firmware Upgrade (DFU) is an industry standard system for upgrading and manipulating firmware in embedded de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upport for this protocol to U-Boot main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Stefan Schmid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Merger Statu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icit project proposals throughout the ye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 Workgroup will continue to maintain the Project Proposal wiki page, and will continue accepting ideas and proposals for contract work through 20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will allow ideas to come in as they are generated and relevant, instead of accumulating them throughout the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Bill Trayn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ference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76360" y="114480"/>
            <a:ext cx="7529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93920"/>
            <a:ext cx="82915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C 2011 and Android Builders Summ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s just announced – see wiki p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to-san will give a report later to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Con Japan – June 1-3, Yokoh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C Europe 2011 – Oct 26-28, Prag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Con Brazil – Nov 17-18, Sao Paul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ing Japan Jambore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C and Android Builders Summit in 20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http://events.linuxfoundation.com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http://elinux.org/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Summi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-only event to discuss embedded issues between key industry and community lea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held September 30, 2010 in Tokyo and October 26 in Cambrige,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to other mini-summits, but with focus on embedded iss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ing up to kernel summit in Novemb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lead to several initia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one was longterm kernel branch, maintained by Andi Kle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ainline BOF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-only event to discuss Android mainline iss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held April 14 in San Francis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aro, CE WG, Google and Qualcomm att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good discussion about what different members of the “Android/Linux ecosystem” could do to coordinate work and mainline Android technolo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G “mainline Android logger” project is a result of this mee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ther Initia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930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19360"/>
            <a:ext cx="8210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linux.org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pedia for embedded Linux develop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for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technical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 have been working on Android Portal section of s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ently moved to OSU Open Source Lab hos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st – just finished best editor contes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ease use it and post stu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ardware Dona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donates hardware for some open source develop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Board for BKL removal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il me if you need hardware for a project that you think CELF would be interested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3930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rger with Linux Found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rger was completed in January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final legal details still being wrapped 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is now the Linux Foundation “CE Workgroup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w starting to utilize Linux Foundation infra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mean it's easier for non-members to participate in CE WG project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 2010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Contract Work 20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chart and smemcap in busybo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unction-s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AFFS2 mainline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-Boot ARM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e format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xecboot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Bootchart and smemcap support in busybox Smemcap apple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chart applet - Captures bootchart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http://elinux.org/Japan_Technical_Jamboree_3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http://elinux.org/Bootchart#BusyBo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emcap applet – captures smem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can be moved to host for analysis and visu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 Comple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ets are available in busybox main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-sec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upport to Linux kernel for gcc –ffunction-sections option, to shrink kernel size by improving dead code remo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s each function in its own linker s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d a big section rename in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parts mainli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ing to resolve linker issues for weird symbols on PARIS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ort stalled – need to finis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YAFFS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FFS2 is a popular NAND flash file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 used by Android in many devic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upport for YAFFS2 to mainline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Aleph One Lt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gle Co-Sponsored this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mainline attempts made, but hit some barri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 stuck on some locking iss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ook for mainline acceptance is uncert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Bird, Tim</cp:lastModifiedBy>
  <dcterms:modified xsi:type="dcterms:W3CDTF">2011-05-19T21:03:59Z</dcterms:modified>
  <cp:revision>78</cp:revision>
  <dc:subject/>
  <dc:title>スライド 1</dc:title>
</cp:coreProperties>
</file>